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D746-BEFE-4365-835E-1ECF16BCA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0329-9945-4310-AF88-5FAB8A7C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AB8A-DE12-47AE-A0B1-E7589A146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16D3-EABF-4D0D-ABC7-9D973EE93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5ED4-CF21-4F10-B3A9-8598DACB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4F37-1D37-4DC5-AA66-B3806202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EBFD-654C-4D86-B589-6A5CA761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86D2-B0DF-45EE-A5BB-723B07F1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9D42-507F-423C-8391-73225BB3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DE26-C0BB-4ECF-BE72-BACD7CBA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555C-5BC4-452F-A8DD-D1E73264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BE1D-C822-4CBD-9855-75158E21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159E-13BB-4E07-86C2-F9297AA59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87640" y="100188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39920" y="107784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11320" y="4278240"/>
            <a:ext cx="7621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4354560"/>
            <a:ext cx="7621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11120" y="298296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11120" y="3059280"/>
            <a:ext cx="7621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40120" y="4049640"/>
            <a:ext cx="7621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40120" y="412596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T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73840" y="1077840"/>
            <a:ext cx="7621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6120" y="115416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68920" y="2144880"/>
            <a:ext cx="6098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92960" y="21448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D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149560" y="450684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692360" y="33634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692360" y="153504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25520" y="11541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73440" y="435456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39920" y="138276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063960" y="138240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97120" y="138276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521160" y="138240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73440" y="4506840"/>
            <a:ext cx="3352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197320" y="1611000"/>
            <a:ext cx="0" cy="2438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50160" y="14590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331040" y="1459080"/>
            <a:ext cx="0" cy="2590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6569640" y="3591720"/>
            <a:ext cx="76104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349960" y="1611000"/>
            <a:ext cx="0" cy="2438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49760" y="130644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07320" y="1306440"/>
            <a:ext cx="76104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68720" y="1687680"/>
            <a:ext cx="0" cy="2361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1844280" y="1002600"/>
            <a:ext cx="76212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71" y="49"/>
                </a:moveTo>
                <a:arcTo wR="10800" hR="10800" stAng="-5728146" swAng="5728146"/>
                <a:lnTo>
                  <a:pt x="10800" y="10800"/>
                </a:lnTo>
                <a:close/>
              </a:path>
              <a:path fill="none" w="21600" h="21600">
                <a:moveTo>
                  <a:pt x="9771" y="49"/>
                </a:moveTo>
                <a:arcTo wR="10800" hR="10800" stAng="-5728146" swAng="5728146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15480" y="1154160"/>
            <a:ext cx="834120" cy="107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71" y="49"/>
                </a:moveTo>
                <a:arcTo wR="10800" hR="10800" stAng="-5728146" swAng="5728146"/>
                <a:lnTo>
                  <a:pt x="10800" y="10800"/>
                </a:lnTo>
                <a:close/>
              </a:path>
              <a:path fill="none" w="21600" h="21600">
                <a:moveTo>
                  <a:pt x="9771" y="49"/>
                </a:moveTo>
                <a:arcTo wR="10800" hR="10800" stAng="-5728146" swAng="5728146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749400" y="12304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749400" y="115416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76680" y="614520"/>
            <a:ext cx="762120" cy="92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71" y="49"/>
                </a:moveTo>
                <a:arcTo wR="10800" hR="10800" stAng="-5728146" swAng="5728146"/>
                <a:lnTo>
                  <a:pt x="10800" y="10800"/>
                </a:lnTo>
                <a:close/>
              </a:path>
              <a:path fill="none" w="21600" h="21600">
                <a:moveTo>
                  <a:pt x="9771" y="49"/>
                </a:moveTo>
                <a:arcTo wR="10800" hR="10800" stAng="-5728146" swAng="5728146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3604320" y="469080"/>
            <a:ext cx="622800" cy="92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71" y="49"/>
                </a:moveTo>
                <a:arcTo wR="10800" hR="10800" stAng="-5728146" swAng="6142961"/>
                <a:lnTo>
                  <a:pt x="10800" y="10800"/>
                </a:lnTo>
                <a:close/>
              </a:path>
              <a:path fill="none" w="21600" h="21600">
                <a:moveTo>
                  <a:pt x="9771" y="49"/>
                </a:moveTo>
                <a:arcTo wR="10800" hR="10800" stAng="-5728146" swAng="6142961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02040" y="620640"/>
            <a:ext cx="2819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44840" y="92556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02160" y="1230480"/>
            <a:ext cx="694800" cy="92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71" y="49"/>
                </a:moveTo>
                <a:arcTo wR="10800" hR="10800" stAng="-5728146" swAng="5728146"/>
                <a:lnTo>
                  <a:pt x="10800" y="10800"/>
                </a:lnTo>
                <a:close/>
              </a:path>
              <a:path fill="none" w="21600" h="21600">
                <a:moveTo>
                  <a:pt x="9771" y="49"/>
                </a:moveTo>
                <a:arcTo wR="10800" hR="10800" stAng="-5728146" swAng="5728146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1692360" y="3898080"/>
            <a:ext cx="97308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71" y="49"/>
                </a:moveTo>
                <a:arcTo wR="10800" hR="10800" stAng="-5728146" swAng="5728146"/>
                <a:lnTo>
                  <a:pt x="10800" y="10800"/>
                </a:lnTo>
                <a:close/>
              </a:path>
              <a:path fill="none" w="21600" h="21600">
                <a:moveTo>
                  <a:pt x="9771" y="49"/>
                </a:moveTo>
                <a:arcTo wR="10800" hR="10800" stAng="-5728146" swAng="5728146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568920" y="12304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54520" y="3821040"/>
            <a:ext cx="53352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73640" y="4964040"/>
            <a:ext cx="609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54520" y="3135240"/>
            <a:ext cx="53352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54520" y="2678040"/>
            <a:ext cx="53352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25520" y="2373480"/>
            <a:ext cx="53352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25520" y="23572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C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54520" y="38210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54520" y="31352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G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54520" y="26780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IC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54520" y="11685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C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7400" y="2527200"/>
            <a:ext cx="556200" cy="49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69" y="49"/>
                </a:moveTo>
                <a:arcTo wR="10800" hR="10800" stAng="-5728816" swAng="6557521"/>
                <a:lnTo>
                  <a:pt x="10800" y="10800"/>
                </a:lnTo>
                <a:close/>
              </a:path>
              <a:path fill="none" w="21600" h="21600">
                <a:moveTo>
                  <a:pt x="9769" y="49"/>
                </a:moveTo>
                <a:arcTo wR="10800" hR="10800" stAng="-5728816" swAng="6557521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44760" y="2449440"/>
            <a:ext cx="694800" cy="49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69" y="49"/>
                </a:moveTo>
                <a:arcTo wR="10800" hR="10800" stAng="-5728816" swAng="6557521"/>
                <a:lnTo>
                  <a:pt x="10800" y="10800"/>
                </a:lnTo>
                <a:close/>
              </a:path>
              <a:path fill="none" w="21600" h="21600">
                <a:moveTo>
                  <a:pt x="9769" y="49"/>
                </a:moveTo>
                <a:arcTo wR="10800" hR="10800" stAng="-5728816" swAng="6557521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759040" y="25257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883120" y="2906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6053400" y="1517400"/>
            <a:ext cx="990000" cy="416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24"/>
                </a:moveTo>
                <a:arcTo wR="10800" hR="10800" stAng="-10743854" swAng="11079964"/>
                <a:lnTo>
                  <a:pt x="10800" y="10800"/>
                </a:lnTo>
                <a:close/>
              </a:path>
              <a:path fill="none" w="21600" h="21600">
                <a:moveTo>
                  <a:pt x="1" y="10624"/>
                </a:moveTo>
                <a:arcTo wR="10800" hR="10800" stAng="-10743854" swAng="11079964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4946040" y="1710720"/>
            <a:ext cx="1431720" cy="6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24"/>
                </a:moveTo>
                <a:arcTo wR="10800" hR="10800" stAng="-10743854" swAng="11079964"/>
                <a:lnTo>
                  <a:pt x="10800" y="10800"/>
                </a:lnTo>
                <a:close/>
              </a:path>
              <a:path fill="none" w="21600" h="21600">
                <a:moveTo>
                  <a:pt x="1" y="10624"/>
                </a:moveTo>
                <a:arcTo wR="10800" hR="10800" stAng="-10743854" swAng="11079964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5515200" y="1852920"/>
            <a:ext cx="1372680" cy="27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" y="11347"/>
                </a:moveTo>
                <a:arcTo wR="10800" hR="10800" stAng="10625657" swAng="11310452"/>
                <a:lnTo>
                  <a:pt x="10800" y="10800"/>
                </a:lnTo>
                <a:close/>
              </a:path>
              <a:path fill="none" w="21600" h="21600">
                <a:moveTo>
                  <a:pt x="14" y="11347"/>
                </a:moveTo>
                <a:arcTo wR="10800" hR="10800" stAng="10625657" swAng="11310452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54520" y="130644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111720" y="130644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73640" y="49640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21269400">
            <a:off x="5522400" y="4506120"/>
            <a:ext cx="973800" cy="902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0079"/>
                </a:moveTo>
                <a:arcTo wR="10800" hR="10800" stAng="-10570300" swAng="10906409"/>
                <a:lnTo>
                  <a:pt x="10800" y="10800"/>
                </a:lnTo>
                <a:close/>
              </a:path>
              <a:path fill="none" w="21600" h="21600">
                <a:moveTo>
                  <a:pt x="24" y="10079"/>
                </a:moveTo>
                <a:arcTo wR="10800" hR="10800" stAng="-10570300" swAng="10906409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92960" y="488808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64360" y="50403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TM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5273640" y="-213480"/>
            <a:ext cx="925200" cy="835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5232960" y="3177360"/>
            <a:ext cx="761760" cy="833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9" y="11932"/>
                </a:moveTo>
                <a:arcTo wR="10800" hR="10800" stAng="10439138" swAng="11496971"/>
                <a:lnTo>
                  <a:pt x="10800" y="10800"/>
                </a:lnTo>
                <a:close/>
              </a:path>
              <a:path fill="none" w="21600" h="21600">
                <a:moveTo>
                  <a:pt x="59" y="11932"/>
                </a:moveTo>
                <a:arcTo wR="10800" hR="10800" stAng="10439138" swAng="11496971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78560" y="321156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25720" y="22208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273640" y="1634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1920960" y="3945960"/>
            <a:ext cx="532800" cy="549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3902400" y="3793320"/>
            <a:ext cx="533160" cy="55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2149560" y="592920"/>
            <a:ext cx="532800" cy="55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682720" y="7729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920960" y="42019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435560" y="40496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73440" y="38973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P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06960" y="38973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92360" y="40496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P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25520" y="40496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45040" y="111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P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59440" y="111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30440" y="6206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20960" y="6206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cy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3605400" y="2288880"/>
            <a:ext cx="533160" cy="55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3534840" y="2206800"/>
            <a:ext cx="685440" cy="71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25720" y="28306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02040" y="21448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02040" y="27543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49960" y="35164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73640" y="19162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A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59440" y="17636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A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45320" y="45068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4427280" y="1908000"/>
            <a:ext cx="532800" cy="549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59240" y="17780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59240" y="23115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663800" y="244944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21160" y="35924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92560" y="3592440"/>
            <a:ext cx="380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35360" y="1992240"/>
            <a:ext cx="380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63960" y="1992240"/>
            <a:ext cx="380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39720" y="42782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39720" y="11541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49960" y="6206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40320" y="430848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82920" y="420228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87840" y="13064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92760" y="13064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21360" y="11541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64360" y="168768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21560" y="17636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78560" y="29066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4416120" y="1527840"/>
            <a:ext cx="536040" cy="55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5470218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5470218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30640" y="14590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COO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02040" y="40640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THF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20960" y="42022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THF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25520" y="9255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02240" y="3920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HF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97120" y="24494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H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87840" y="20685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45240" y="16113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897200" y="5288040"/>
          <a:ext cx="324792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7200" y="5288040"/>
                    <a:ext cx="324792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1221120" y="1238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74840" y="478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98520" y="166680"/>
            <a:ext cx="65451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038240" y="47520"/>
            <a:ext cx="6799320" cy="675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038240" y="44280"/>
            <a:ext cx="668484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298520" y="166680"/>
            <a:ext cx="65451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98520" y="166680"/>
            <a:ext cx="65451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08200" y="47520"/>
            <a:ext cx="721980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298520" y="166680"/>
            <a:ext cx="65451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04:39:28Z</dcterms:created>
  <dc:creator>Tomas Radivoyevitch</dc:creator>
  <dc:description/>
  <dc:language>en-US</dc:language>
  <cp:lastModifiedBy>Tomas Radivoyevitch</cp:lastModifiedBy>
  <dcterms:modified xsi:type="dcterms:W3CDTF">2005-05-26T20:05:09Z</dcterms:modified>
  <cp:revision>12</cp:revision>
  <dc:subject/>
  <dc:title>Slide 1</dc:title>
</cp:coreProperties>
</file>