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#12 v1.0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KCS Workshop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al Information Exchange Syntax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nally published v1.0 in April, 1999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technical changes compared to last draf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clude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ompilabl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SN.1 modu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attribute definitions moved to PKCS #9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flects what’s implemented in current produ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2 v1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additional work planned for this specif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t is to promote PKCS #15 as th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oft-tok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format (when and as PKCS #15 supports such token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dvantage: One format for hardware tokens and software toke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ents or sugg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lease submit to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editor@rsasecurity.com o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tng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8:32:52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9T06:16:37Z</dcterms:modified>
  <cp:revision>2</cp:revision>
  <dc:subject/>
  <dc:title>PKCS #12 v1.0</dc:title>
</cp:coreProperties>
</file>