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585-8242-499F-9AA8-AC36FDD9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85E-C2BD-4D78-9EA2-5F07B424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81B-931F-42C0-B8D2-CB86E484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9A0-C682-47D5-BD9A-8AF20346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E531-7FD4-4AEC-AD33-F0BE9B80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AC0D-AD75-4526-BD01-61B5BB68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BDD6-B2D6-403B-B456-6014E6DE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4BC0-CA57-4202-A7FE-B5757A5D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142A-55C7-44C5-94BE-DA0F42F1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FA8E-84FC-48FE-8C5D-E0F23899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008D-8D70-4E18-A8F7-7E3BAD9C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94B-0B53-4696-817D-E9425735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1E79-D11D-4C12-A9A2-AAFE6BB5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3F07-33BF-4BD8-B4EF-7F4205DD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7E23-DBA3-44C7-9A18-96EF8950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17ED-F39D-4897-92EF-3457FFC2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C1F4-C071-4ED3-9172-3F57B27C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A28-E0E5-41C9-BB32-886E9888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152-311E-42BE-A07A-A4200271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91A-D822-4D91-B20F-9741224A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FEF-2618-4D09-8F44-760D45DD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C11-03FC-49CE-BBB4-F0B219CD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C70-863E-4696-97C3-EB26C1B8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F8F-B182-4148-82A6-6E1CCD5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6A76-249B-46C8-97F6-204F0A4D7D9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0AE0-F329-4430-B2FA-C3CFA411B5A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Representation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Key Cryptography Standar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KCS) Using S-Expression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-PKC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465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tthew Wood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arl Ellis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1999 PKCS Workshop, Stockholm, Swed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efine Data Encoding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oss-platform data exchan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istent stor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operability of independently implemented mod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rawbacks of ASN.1 and BER/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R often includes several different, but equally valid encodings of the same dat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data structures is assumed based on the context where it is found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thin other data structu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sition within a higher level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sing engine is large and complic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enefits of S-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encoding for any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all data structures is explic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mall, simple parsing eng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coded structures are often shorter than their DER encoded ver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digest-info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sha1 #F47D…#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rsa-public-key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public-key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rsa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n #…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e #010001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pbes2-params&gt;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es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kcs5-pbkdf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kdf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#...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03E8#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mac-sha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s-c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 #0123456789ABCDEF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11:45:48Z</dcterms:created>
  <dc:creator>Matthew Wood</dc:creator>
  <dc:description/>
  <dc:language>en-US</dc:language>
  <cp:lastModifiedBy>Matthew Wood</cp:lastModifiedBy>
  <dcterms:modified xsi:type="dcterms:W3CDTF">1999-09-26T12:13:52Z</dcterms:modified>
  <cp:revision>7</cp:revision>
  <dc:subject/>
  <dc:title>Alternate Representations of the Public Key Cryptography Standards (PKCS) Using S-Expressions,  S-PKCS</dc:title>
</cp:coreProperties>
</file>