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#1 v2.1:</a:t>
            </a:r>
            <a:br>
              <a:rPr sz="4800"/>
            </a:b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RSA Cryptography Standard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t Kaliski, 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Workshop, 30 September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(string)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representative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(integer)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(integer)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Primitive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c1c1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P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ification Primitive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c1c1c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 Meth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ppings between messag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integer message representativ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Encod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5981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Check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consistent?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ecod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5981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urity goals: one-way, collision-resistant, no mathematical structu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Signature and Verification Primi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cas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P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i="1" lang="en-US" sz="2000" spc="-1" strike="noStrike" baseline="30000">
                <a:solidFill>
                  <a:srgbClr val="4d5981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mod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VP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i="1" lang="en-US" sz="2000" spc="-1" strike="noStrike" baseline="30000">
                <a:solidFill>
                  <a:srgbClr val="4d5981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mod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abin-Williams cas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P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|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i="1" lang="en-US" sz="2000" spc="-1" strike="noStrike" baseline="30000">
                <a:solidFill>
                  <a:srgbClr val="4d5981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mod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/2 such that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= +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VP: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2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or 2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i="1" lang="en-US" sz="2000" spc="-1" strike="noStrike" baseline="30000">
                <a:solidFill>
                  <a:srgbClr val="4d5981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mod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has redundanc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Signature Scheme with Appendi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oper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ode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S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ification oper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V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heck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Signature Scheme with Message Recov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oper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Encode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S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covery oper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V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Decode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Size of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is limited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ft Specification of P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2320" indent="-202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SSA-PSS in PKCS #1 v2.1 d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4d5981"/>
                </a:solidFill>
                <a:uFillTx/>
                <a:latin typeface="Arial"/>
              </a:rPr>
              <a:t>RSA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4d5981"/>
                </a:solidFill>
                <a:uFillTx/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gnature </a:t>
            </a:r>
            <a:r>
              <a:rPr b="1" lang="en-US" sz="2000" spc="-1" strike="noStrike" u="sng">
                <a:solidFill>
                  <a:srgbClr val="4d5981"/>
                </a:solidFill>
                <a:uFillTx/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heme with </a:t>
            </a:r>
            <a:r>
              <a:rPr b="1" lang="en-US" sz="2000" spc="-1" strike="noStrike" u="sng">
                <a:solidFill>
                  <a:srgbClr val="4d5981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pendix based on </a:t>
            </a:r>
            <a:r>
              <a:rPr b="1" lang="en-US" sz="2000" spc="-1" strike="noStrike" u="sng">
                <a:solidFill>
                  <a:srgbClr val="4d5981"/>
                </a:solidFill>
                <a:uFillTx/>
                <a:latin typeface="Arial"/>
              </a:rPr>
              <a:t>PS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2320" indent="-202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llowing general model, with salt valu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put to encoding oper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ptional output from signature operation and input to verification oper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02960" indent="-2023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r “single-pass processing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02960" indent="-2023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wo cases for verification operation, with and without salt valu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2320" indent="-202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ased on RSA primitives, also supports RW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s noted in Bellare-Rogaway submission to IEEE P1363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Signature Ope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In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messag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Out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signatur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salt (opt.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Generate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Apply encoding operation to message, salt to produce message representativ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ode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Apply signature primitive to produce signatur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S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Verification Operation w/Sal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76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In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messag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signatur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76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Out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“valid” / “invalid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76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Apply encoding operation to produce message representativ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37200" indent="-2440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ode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976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Apply verification primitive to recover original message representativ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37200" indent="-2440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4d5981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V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976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Compar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37200" indent="-2440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?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4d5981"/>
                </a:solidFill>
                <a:latin typeface="Arial"/>
              </a:rPr>
              <a:t>’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Verification Operation w/o Sal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In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messag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signatur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Out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“valid” / “invalid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Apply verification primitive to recover original message representativ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VP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Apply checking operation to determine whether message representative is valid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heck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Encoding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llowing general model, with encoding and checking oper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lt is additional input to encoding oper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ame length as hash function outpu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representative is one byte shorter than modulu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ased on underlying hash function, mask generation func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1.5 published in November 199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 deployment, in parallel with increased understanding of security of RSA-based techniqu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2.0 released in July 1998 with OAEP (Optimal Asymmetric Encryption Padding) for enhanced security of encryption 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AEP developed by M. Bellare and P. Rogaway, 1994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2.1 draft incorporates the companion technique for digital signatures, PSS (Probabilistic Signature Schem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SS developed by same authors, 1996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Encoding Ope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In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messag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Output: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representativ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Hash message and salt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Hash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Add padding to salt to form data block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B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00 … 00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Expand hash and mask data block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askedDB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B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xor MGF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. Format message representativ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42861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askedDB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 of PSS Encoding Ope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32200" y="1523880"/>
          <a:ext cx="38210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523880"/>
                    <a:ext cx="3821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is hashed with random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mproves security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duces reliance on hash function secur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sh value is expanded to full lengt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andomizes input to primitiv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moves multiplicative structur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ables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lt value is xored into expanded has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hortens signature overhea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rt of message may also be xor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Checking Ope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Input: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messag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message representativ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Output: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consistent” / “inconsistent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Parse message representativ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askedDB = 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Expand hash value and unmask data block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B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askedDB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xor MGF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Check and remove padding to recover salt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00 … 00 =?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B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. Rehash message and salt and compar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? Hash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Advanta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vable security under random oracle mod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ther methods have “ad hoc” security, not a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duced reliance on hash function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irthday attack” collisions not useful due to random sal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atural extension to message recove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’s Provabl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se an algorithm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can forge PSS signatures without access to the details of Hash, MGF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ash, MGF are effectively “random oracles” that can only be queri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n an algorithm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can invert RSA in about the same time using algorithm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s a subroutin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Symbol" charset="2"/>
              <a:buChar char="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RSA is hard to invert, then PSS is secu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of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verting algorithm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“builds” Hash, MGF that appear random to forgery algorithm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but embed an instance to be invert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en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succeeds at forgery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succeeds at inverting RSA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andom salt is key to “tight” proof, but even if not random, proof still hol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about the Random Oracle Mode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2320" indent="-202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me concerns have been raised about the relevance of proofs in the random oracle model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ome on theoretical groun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thers on practicality of “instantiating” a random oracle with a real hash or mask generation fun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2320" indent="-202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ut although the proof may “overestimate” the properties of Hash and MGF, it underestimates properties of RSA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1960" indent="-2498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.g., bit security properties are not consider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2320" indent="-202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us, in practice, PSS may well provide high security even without the random oracle mod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ternatives to P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urrent metho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ut not provably secure (“what if?”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ull Domain Hashing (Bellare-Rogaway 1993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ut security proof not as tigh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t as flexibl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uture researc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Syntax for RSASSA-P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ic OID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-RSASSA-PSS ::= pkcs-1.10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amet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SSA-PSS-params ::=  SEQUEN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hashFunc [0] AlgorithmIdentifier  {{oaepDigestAlgorithms}}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  DEFAULT sha1Identifier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maskGenFunc [1] AlgorithmIdentifier {{pkcs1MGFAlgorithms}}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  DEFAULT mgf1SHA1Identifier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salt OCTET STRING OPTIONAL 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: syntax needs some updat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 of Pres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t I: Review the current draf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t II: Propose a strategy for RSA signature standar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t III: Discuss several other topics related to the draf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Special Synta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 some applications, e.g., PKCS #7 and S/MIME CMS, the hash function underlying a signature scheme is identified separatel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ic OID for use in combination with PS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-salted-hash ::= pkcs-1.1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amet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alted-Hash-Params ::= SEQUEN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hashFunc [0] AlgorithmIdentifier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salt OCTET STRING OPTIONAL 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Application: X.509 Certific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algorithm identified in two plac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ody of certific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djacent to signatur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save space, both identifiers should specify id-RSASSA-PSS without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lt can be recovered from signature during verific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Application: S/MIME Signed Messa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levant algorithms are identified in three plac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nderlying hash function before message and in SignerInfo after messag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gnature algorithm in SignerInfo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facilitate single-pass processing, identifier before message should specify id-salted-hash with underlying hash function,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sh function identifier in SignerInfo should specify id-salted-hash without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algorithm identifier should specify id-RSASSA-PSS without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tent Iss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University of California has applied for a patent (U.S. only) on PSS and PSS-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 a letter to IEEE P1363, UC has offered to waive licensing on PSS for signatures with appendix if adopted as an IEEE standar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asonable and non-discriminatory licensing for signatures with message recove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mmended Deploy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gradual transition to PSS is recommended in the interest of prudent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ollover, along with AES, new hash functions, 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1.5 signature scheme is still appropriate for new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fferent than situation with PKCS #1 v1.5 encryption scheme, where only OAEP is recommended for new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Brief Security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t Crypto ’99, J.-S. Coron, D. Naccache and J. Stern give a thorough analysis of security of RSA-based signature schemes against attacks based on factoring message representativ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44760" indent="-2469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tronger versions of Desmedt-Odylzko attack (1985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1.5 fared very we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44760" indent="-2469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ttacks are impractical, more expensive than finding hash function collisions (2</a:t>
            </a:r>
            <a:r>
              <a:rPr b="1" lang="en-US" sz="2000" spc="-1" strike="noStrike" baseline="30000">
                <a:solidFill>
                  <a:srgbClr val="4d5981"/>
                </a:solidFill>
                <a:latin typeface="Arial"/>
              </a:rPr>
              <a:t>80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operation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44760" indent="-2469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sign considerations by R. Rivest (1991) provide resistanc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. Coppersmith, S. Halevi and C. Jutla extended the attack to break ISO/IEC 9796-1 (Crypto ’99 rump session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art II: RSA Standards Strategy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arious methods today for digital signatures in the integer factorization / RSA famil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tandards, practice, theory diff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ow to harmonize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Signature Schemes in the IF Famil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schemes with appendix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NSI X9.3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 v1.5 (also in v2.0, v2.1 draft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ellare-Rogaway FDH and PS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ature schemes with message recovery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SO/IEC 9796-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ellare-Rogaway PSS-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discussion focuses on the first s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I X9.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e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 =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6b bb … bb ba || Hash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 || 3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c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3 for SHA-1, 1 for RIPEMD-160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 hoc de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ly standardiz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EEE P1363, ISO/IEC 14888-3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S NIST FIPS 186-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SI X9.31 requires “strong primes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art I: The Current Draf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1 v1.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e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 =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00 01 ff … ff || HashAlgID || Hash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 hoc de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ly deploy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SL certifica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/MI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be included in IEEE P1363a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437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llare-Rogaway FDH</a:t>
            </a:r>
            <a:br>
              <a:rPr sz="3600"/>
            </a:b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Full Domain Hashing, ACM CCCS ’93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e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 =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00 || Full-Length-Hash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vably secure de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be included in IEEE P1363a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vs. FDH: Technical Compari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is probabilistic, FDH is determinist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oth provably secu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11360" indent="-2725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ame paradigm as Optimal Asymmetric Encryption Padding (OAEP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has tighter security proof, is less dependent on security of hash func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-R variant supports message recovery, partial message recove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is patent pending (but generously licensed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I X9.31 vs. PKCS #1 v1.5: Technical Compari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oth are determinist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oth include a hash function identifi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oth are ad hoc desig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oth resist Coron-Naccache-Stern / Coppersmith-Halevi-Jutla attacks on ISO/IEC 9796-1,-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oth support RSA and RW primitiv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e IEEE P1363a contribution on PKCS #1 signatures for discuss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patents have been reported to IEEE P1363 or ANSI X9.31 for these encoding metho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s vs. Theory vs. Pract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SI X9.31 is widely standardiz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is widely considered secu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1.5 is widely deploy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ow to harmonize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frastructure changes take ti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rticularly on the user sid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SI X9.31 is more than just another encoding method, also specifies “strong primes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controversial topi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ny communities involv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rmal standards bodies, IETF, browser vendors, certificate authoriti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udent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if a weakness were found in ANSI X9.31 or PKCS #1 v1.5 signature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 proof of security, though designs are well motivated, supported by analysi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ould be surprising — but so were vulnerabilities in ISO/IEC 9796-1,-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embodies “best practices,” prudent to improve over ti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Strate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rt term (1-2 years): Support both PKCS #1 v1.5 and ANSI X9.31 signatures for interoperabil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.g., in IETF profiles, FIPS valid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59840" indent="-2138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IST is in the process of adding PKCS #1 v1.5 to FIPS 186-2 for an 18-month transition perio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Long term (2-5 years): Move toward PSS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t necessarily, but perhaps optionally with “strong primes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pgrade in due course — e.g., with AES algorithm, new hash func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s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EEE P1363a will include P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lso FDH, PKCS #1 v1.5 signa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2.1 d1 includes i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be proposed to ANSI X9F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ther relevant standards bodies include ISO/IEC, US NIST, IETF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art III: Some Discussion Topic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2.1 adds PSS signature scheme, includes some editorial improvemen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raft 1 released 21 September for 30-day review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-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SI X9.31 encoding metho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mposite hash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ew mask generation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abin-Williams suppor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-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PKCS #1 v2.1 include the PSS-R encoding method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SO/IEC 9796-1, -2 may be updated with new  and potentially different signature scheme with message recove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-R to be included in IEEE P1363a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I X9.31 Encoding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PKCS #1 v2.1 include the ANSI X9.31 encoding method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SI X9.31 is a banking standar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PS 186-1 includes i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 Hash Fun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PKCS #1 v2.1 specify “composite” hash function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aised by Tom Gindin, IB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HA-1-MD5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= SHA-1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|| MD5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simple method to increase security in a modular fash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uld be combined with PKCS #1 v1.5 encoding method, or P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Mask Generation Fun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PKCS #1 v2.1 define new mask generation function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GF2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= HMAC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0) || HMAC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1) || 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urrent method lacks HMAC’s security proof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GF1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= Hash(0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|| Hash(1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|| 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bin-Williams Sup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PKCS #1 v2.1 include the RW primitives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 even exponent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ould be consistent with ANSI X9.31, X9.44 draft, IEEE P136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1.5, PSS versions require slightly different primitives than currently specifi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f. relevant submissions to IEEE P1363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new draft of PKCS #1 nearing comple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tandards strategy for RSA signatures emerg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SS a prudent choice for long-term security, harmonization of standa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 future work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 usage guidelin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key generation and validation specific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is PS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l Model for Signature 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raft Specification of P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N.1 Syntax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Advantages and Alternativ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tent Issu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commended Deploym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3960" indent="-183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Brief Security Updat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PS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stands for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robabilistic Signature Sche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ublished in 1996 by M. Bellare and P. Rogawa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ing method” for signatures with appendix in the integer factorization (IF) family, including RSA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vable security in the random oracle mod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-R variant provides message recove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l Model for Signature Sche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llowing IEEE P1363 classific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rimitive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re mathematical operations on integers, field elemen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cheme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re sets of operations on messag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chemes are built up from primitives, “encoding methods” mapping between messages, integer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in PKCS #1 v2.1 encoding methods map to strings, which are then converted to integers; this detail omitted here for simplic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Famil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yptography based on the difficulty of the integer factorization (IF) proble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odulu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q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ublic exponen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private exponen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: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od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abin-Williams: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even; conditions on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dcterms:modified xsi:type="dcterms:W3CDTF">1999-09-29T05:35:33Z</dcterms:modified>
  <cp:revision>127</cp:revision>
  <dc:subject/>
  <dc:title>PKCS #1 v2.1: RSA Cryptography Standard</dc:title>
</cp:coreProperties>
</file>