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907588" cy="6858000"/>
  <p:notesSz cx="67278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50760" y="786960"/>
            <a:ext cx="7963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11280" y="679320"/>
            <a:ext cx="864216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10560" y="6464160"/>
            <a:ext cx="1495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runo Struif, GMD-TK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676360" y="6515280"/>
            <a:ext cx="714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922D96D-0F91-452B-B6E1-8E9E5DA9C9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533520"/>
            <a:ext cx="152244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martCard-Tech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8763120" y="380880"/>
            <a:ext cx="753840" cy="8384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59080" y="3886200"/>
            <a:ext cx="7018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1828800"/>
            <a:ext cx="8409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German Digital Signature Card and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fice Identity Card 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and 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KCS #15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57560" y="4114800"/>
            <a:ext cx="707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runo Stru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erman National Research Center for Information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Darmsta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62120" y="1981080"/>
            <a:ext cx="838188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User Authentication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KCS15 describes PINs and passwords, but no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he German Digital Signature law allows 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t is technically already feasible to implement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ometric feature matching algorithms in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SO/IEC will add an amendment to 7816-4 with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espect to 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VERIFY Command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2057400"/>
            <a:ext cx="754380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590920" y="2209680"/>
          <a:ext cx="6072120" cy="217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209680"/>
                    <a:ext cx="607212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1386000" y="4572000"/>
            <a:ext cx="617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f a digital signature is made on a private PC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then the PIN is presented as plain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f a digital signature is made on a public customer service terminal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then the PIN shall be presented as cryptogram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followed by a cryptographic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1981080"/>
            <a:ext cx="708660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86520" y="2057400"/>
            <a:ext cx="671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Authentication  ::= CHOI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in    PKCS15AuthenticationObject { PKCSPinAttributes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   PKCS15AuthenticationObject { PKCSBioAttributes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BioAttributes  ::= SEQUEN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Flags            PKCS15BioFlag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Subject         PKCS15BioSubjec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Type             PKCS15BioType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Reference     [0] PKCSReference DEFAULT 0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astBioChange   GeneralizedTime  OPTIONAL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path                    PKCS15Path OPTIONAL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...  -- For future extensions 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1905120"/>
            <a:ext cx="5715000" cy="4343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56920" y="1981080"/>
            <a:ext cx="4214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BioFlags  ::= BIT STRING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0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ocal                     (1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change-disabled   (2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unblock-disabled (3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initialized             (4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5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6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7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disable-allowed     (8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authentic               (9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enciphered           (10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3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2133720"/>
            <a:ext cx="6705720" cy="396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9000" y="2133720"/>
            <a:ext cx="5708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BioSubject  ::= CHOI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fingerPrint                [0] Finger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voicePrint                  [1] Voice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irisPrint                     [2] Iris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facePrint                    [3] Face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tinaPrint                 [4] Retina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handGeometry          [5] HandGeometry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writeDynamics          [6] Write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keystrokeDynamics  [7] Keystroke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ipDynamics              [8] Lip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... -- For future extension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4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19320" y="2057400"/>
            <a:ext cx="7391160" cy="3962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2880" y="2438280"/>
            <a:ext cx="6674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ingerPrint ::=  SEQUEN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handID      HandID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fingerID    FingerI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andID ::= ENUMERATED {righthand (0), lefthand (1) }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ingerID ::= ENUMRATED { thumb(0), pointer finger (1)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middle finger (2), ring finger (3), little finger (4)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Access to object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3880" y="1752480"/>
            <a:ext cx="746784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2209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63760" y="243828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ublic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3352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24160" y="3581280"/>
            <a:ext cx="149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ivate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05720" y="4495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68000" y="4724280"/>
            <a:ext cx="16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ntity Object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24280" y="251460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66320" y="231444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ccess is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37339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15920" y="2895480"/>
            <a:ext cx="194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bject has to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es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(PIN, passwor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metr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48769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5920" y="4648320"/>
            <a:ext cx="236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as to be per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Management of Access Right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90720" y="1600200"/>
            <a:ext cx="7924680" cy="4724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2286000"/>
            <a:ext cx="16002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7560" y="1828800"/>
            <a:ext cx="175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lementary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3880" y="31240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87160" y="2057400"/>
            <a:ext cx="455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EXT AUTH (asym)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´x.01´ or ´x.02´ and User A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EXT AUTH (asym)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´x.01´ and 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X = Prefix denoting the AID or the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ssigning the role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4876920"/>
            <a:ext cx="359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Access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Security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Cert. Holder Author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(Prefix, Role 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M = Secure Mess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Hashing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1752480"/>
            <a:ext cx="5867280" cy="441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3048120" y="2286000"/>
          <a:ext cx="4429080" cy="32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442908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600200" y="1752480"/>
            <a:ext cx="6553080" cy="441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ertificate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666520" y="2057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KCS15 distinguish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509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509Attribute 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spki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pgp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wtls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9-68Certificates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ut no cvCertificat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52480" y="1828800"/>
            <a:ext cx="5410440" cy="3352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General Configuration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2514600"/>
            <a:ext cx="1904760" cy="190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3581280"/>
            <a:ext cx="91440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3962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8560" y="2971800"/>
            <a:ext cx="99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1480" y="20574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943600" y="2666880"/>
            <a:ext cx="990720" cy="609480"/>
            <a:chOff x="5943600" y="2666880"/>
            <a:chExt cx="990720" cy="609480"/>
          </a:xfrm>
        </p:grpSpPr>
        <p:sp>
          <p:nvSpPr>
            <p:cNvPr id="54" name=""/>
            <p:cNvSpPr/>
            <p:nvPr/>
          </p:nvSpPr>
          <p:spPr>
            <a:xfrm>
              <a:off x="5943600" y="2666880"/>
              <a:ext cx="99072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6240" y="281916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49600" y="281916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943600" y="3505320"/>
            <a:ext cx="990360" cy="609480"/>
            <a:chOff x="5943600" y="3505320"/>
            <a:chExt cx="990360" cy="609480"/>
          </a:xfrm>
        </p:grpSpPr>
        <p:sp>
          <p:nvSpPr>
            <p:cNvPr id="58" name=""/>
            <p:cNvSpPr/>
            <p:nvPr/>
          </p:nvSpPr>
          <p:spPr>
            <a:xfrm>
              <a:off x="5943600" y="3505320"/>
              <a:ext cx="99036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5880" y="3657600"/>
              <a:ext cx="152280" cy="151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49240" y="365760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943600" y="4343400"/>
            <a:ext cx="990720" cy="609480"/>
            <a:chOff x="5943600" y="4343400"/>
            <a:chExt cx="990720" cy="609480"/>
          </a:xfrm>
        </p:grpSpPr>
        <p:sp>
          <p:nvSpPr>
            <p:cNvPr id="62" name=""/>
            <p:cNvSpPr/>
            <p:nvPr/>
          </p:nvSpPr>
          <p:spPr>
            <a:xfrm>
              <a:off x="5943600" y="4343400"/>
              <a:ext cx="99072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5880" y="449568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49600" y="449568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362320" y="2895480"/>
            <a:ext cx="15238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30440" y="30243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37339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8680" y="342900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KCS#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43720" y="1981080"/>
            <a:ext cx="149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ifferent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with PKCS#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34640" y="2957400"/>
            <a:ext cx="1756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mart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oviding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ame servi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ut possi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a different w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9840" y="5334120"/>
            <a:ext cx="81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63de8"/>
                </a:solidFill>
                <a:latin typeface="Times New Roman"/>
              </a:rPr>
              <a:t>- If a PC application knows to deal with a card application, no directory files are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63de8"/>
                </a:solidFill>
                <a:latin typeface="Times New Roman"/>
              </a:rPr>
              <a:t>- If a PC application does not know how to deal with a card application, it needs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Verifiable Certificate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1447920"/>
            <a:ext cx="7467840" cy="4800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1676520"/>
            <a:ext cx="6933960" cy="76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PI      CAR        CHR      CHA      OID        PK       SIG.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0574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9718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9625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8006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5627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32448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1360" y="2514600"/>
            <a:ext cx="7095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PI = Certificate Profile 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AR = Certification Authority Reference (Authority Key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HR = Certificate Holder Reference (Subject Key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HA = Certificate Holder Authorisation (Authority || Role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OID  = Object Identifier of PK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PK = Public Key of Certificate Ho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SIG.CA = Signature of Certificate Issuing 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371600" y="1752480"/>
            <a:ext cx="7327800" cy="4178520"/>
          </a:xfrm>
          <a:prstGeom prst="rect">
            <a:avLst/>
          </a:prstGeom>
          <a:solidFill>
            <a:srgbClr val="eaec5e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96520" y="1828800"/>
            <a:ext cx="6720840" cy="39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Template tags for all securi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e.g. user authentication service, digital signature servic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tity authentication service, key cipherment servi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Instruction set mapping ISM (regular comma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ommand to perform (if command is different form that in IS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Object Id of the algorit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Algorithm reference (as used by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Key reference (as used by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Key file id (some cards select the key file containing the key to be us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file id (if present then the file contains the certificat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reference (used e.g. if the certificate is not stored in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qualifier (e.g. X.509 certificate,  ICC certific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PIN usage policy (present if the security service is PIN protect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3120" y="914400"/>
            <a:ext cx="4905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ecurity Service</a:t>
            </a:r>
            <a:r>
              <a:rPr b="1" lang="de-DE" sz="16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Descri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ecurity Service Descriptor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supported algorithms, DSI schemas, hash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user authenticatio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where to find certif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implementation vari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upport of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90720" y="1752480"/>
            <a:ext cx="784836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SD construction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33720" y="19461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65240" y="1890720"/>
            <a:ext cx="7232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For each security service provided by the card exists one or more SSD 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nside an SSS template is one DO mandatory: the DO „command to perform“</a:t>
            </a: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Use e.g. for VERIFY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- command class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reference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length is present possibly with padd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resentation form is present: plain value or with S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Use e.g. for CHANGE RD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command class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reference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usage option is present, e.g. old PIN required/not required in the comman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length is present possibly with padd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resentation form is present: plain value or with SM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990720" y="1752480"/>
            <a:ext cx="784836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SD construction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33720" y="19461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47080" y="2514600"/>
            <a:ext cx="6424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Use e.g. for digital signature function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MANAGE SECURITY ENVIRONMEN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to perform is present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HASH command, if needed, is present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PERFORM SECURITY OPERATION comman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is presented for the digital signature compu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- Different methods for Dig. Sig. Input construction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can be denoted by the DO OID or the DO AlgI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E.g. PKCS#1 or ISO 9796-2 r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The FIDs of related certificate files are g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90720" y="1981080"/>
            <a:ext cx="800100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Working with PKCS#15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2133360"/>
            <a:ext cx="7848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he usage of PKCS#15 require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DF(PKCS15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ODF) for getting the pointer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O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AODF) for getting the PIN informatio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AODF)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 (PrKDF) for getting the signature key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PrK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CDF) for getting the certificate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C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PuKDF) for getting the root CA PuK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PuK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2120" y="1828800"/>
            <a:ext cx="830556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Working with PKCS#15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o do this all is not very efficient. Therefor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 the information once from the card a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store it under a card reference, e.g. the ICC Serial Number ICCSN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keep the information outside the card and store in the card th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card profile identifier pointing to the outside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pen problem: there is no indication whether the PKCS15 files ar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ocrd-oriented o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trans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962840" cy="66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File Structure of DF.SIG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62320" y="1295280"/>
            <a:ext cx="4800600" cy="5105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352680" y="1447920"/>
          <a:ext cx="3270240" cy="482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447920"/>
                    <a:ext cx="327024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8080" y="1905120"/>
            <a:ext cx="807732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Is PKCS#15 powerful enough?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46520" y="1981080"/>
            <a:ext cx="7727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ome challen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have a hash function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support different signature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support a different set of Digital Signature Input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be configurated in such a way that it allow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either after PIN presentation an unlimited number of D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or requires PIN presentation before each 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support ETSI PIN management commands instead of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ISO-command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support a proprietary command for a certai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security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0" y="1981080"/>
            <a:ext cx="5181480" cy="3733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2666880"/>
            <a:ext cx="38862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276720" y="3048120"/>
            <a:ext cx="3431520" cy="1396800"/>
            <a:chOff x="3276720" y="3048120"/>
            <a:chExt cx="3431520" cy="1396800"/>
          </a:xfrm>
        </p:grpSpPr>
        <p:sp>
          <p:nvSpPr>
            <p:cNvPr id="79" name=""/>
            <p:cNvSpPr/>
            <p:nvPr/>
          </p:nvSpPr>
          <p:spPr>
            <a:xfrm>
              <a:off x="5676840" y="3771720"/>
              <a:ext cx="103140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11520" y="317808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979800" y="3469680"/>
              <a:ext cx="609120" cy="40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02120" y="354636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68600" y="3386880"/>
              <a:ext cx="419040" cy="5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03520" y="3326760"/>
              <a:ext cx="84744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85960" y="3048120"/>
              <a:ext cx="81252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05040" y="3914640"/>
              <a:ext cx="812520" cy="50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76720" y="388620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24200" y="3876480"/>
              <a:ext cx="1031760" cy="55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49680" y="4035240"/>
              <a:ext cx="76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1280" y="4019400"/>
              <a:ext cx="966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64240" y="3940200"/>
              <a:ext cx="76140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Fs/EFs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523880"/>
            <a:ext cx="7391520" cy="4648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828800"/>
            <a:ext cx="586764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133720" y="2286000"/>
            <a:ext cx="5511600" cy="1517760"/>
            <a:chOff x="2133720" y="2286000"/>
            <a:chExt cx="5511600" cy="1517760"/>
          </a:xfrm>
        </p:grpSpPr>
        <p:sp>
          <p:nvSpPr>
            <p:cNvPr id="96" name=""/>
            <p:cNvSpPr/>
            <p:nvPr/>
          </p:nvSpPr>
          <p:spPr>
            <a:xfrm>
              <a:off x="4343400" y="2286000"/>
              <a:ext cx="103176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6248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76680" y="32450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00600" y="32450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372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4792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63960" y="287028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951360" y="2765520"/>
              <a:ext cx="581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8520" y="2768040"/>
              <a:ext cx="523800" cy="49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63280" y="2635560"/>
              <a:ext cx="150516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979720" y="2670480"/>
              <a:ext cx="140976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60680" y="2444760"/>
              <a:ext cx="108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63680" y="33973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40080" y="341640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02160" y="33973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40400" y="3407040"/>
              <a:ext cx="90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78640" y="341640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450520" y="4038480"/>
            <a:ext cx="3998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F(ODF) - Object Directoty File - point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PrKDFs) - Private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PuKDFs) - Public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SKDFs) - Secret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CDFs) - Certificate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DODFs) - Data Object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1676520"/>
            <a:ext cx="7467480" cy="4419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ross-References 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1828800"/>
            <a:ext cx="586728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90920" y="2057400"/>
            <a:ext cx="4754160" cy="3611160"/>
            <a:chOff x="2590920" y="2057400"/>
            <a:chExt cx="4754160" cy="3611160"/>
          </a:xfrm>
        </p:grpSpPr>
        <p:sp>
          <p:nvSpPr>
            <p:cNvPr id="118" name=""/>
            <p:cNvSpPr/>
            <p:nvPr/>
          </p:nvSpPr>
          <p:spPr>
            <a:xfrm>
              <a:off x="6065280" y="2742840"/>
              <a:ext cx="127980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65280" y="4561560"/>
              <a:ext cx="1096920" cy="71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25200" y="3533400"/>
              <a:ext cx="1279800" cy="71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45040" y="3454560"/>
              <a:ext cx="1279800" cy="368640"/>
            </a:xfrm>
            <a:custGeom>
              <a:avLst/>
              <a:gdLst/>
              <a:ahLst/>
              <a:rect l="l" t="t" r="r" b="b"/>
              <a:pathLst>
                <a:path w="2016" h="672">
                  <a:moveTo>
                    <a:pt x="0" y="0"/>
                  </a:moveTo>
                  <a:cubicBezTo>
                    <a:pt x="480" y="240"/>
                    <a:pt x="960" y="480"/>
                    <a:pt x="1296" y="576"/>
                  </a:cubicBezTo>
                  <a:cubicBezTo>
                    <a:pt x="1632" y="672"/>
                    <a:pt x="1896" y="576"/>
                    <a:pt x="2016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45040" y="3771000"/>
              <a:ext cx="1919880" cy="1186200"/>
            </a:xfrm>
            <a:custGeom>
              <a:avLst/>
              <a:gdLst/>
              <a:ahLst/>
              <a:rect l="l" t="t" r="r" b="b"/>
              <a:pathLst>
                <a:path w="3024" h="2160">
                  <a:moveTo>
                    <a:pt x="0" y="0"/>
                  </a:moveTo>
                  <a:cubicBezTo>
                    <a:pt x="636" y="60"/>
                    <a:pt x="1272" y="120"/>
                    <a:pt x="1584" y="432"/>
                  </a:cubicBezTo>
                  <a:cubicBezTo>
                    <a:pt x="1896" y="744"/>
                    <a:pt x="1632" y="1584"/>
                    <a:pt x="1872" y="1872"/>
                  </a:cubicBezTo>
                  <a:cubicBezTo>
                    <a:pt x="2112" y="2160"/>
                    <a:pt x="2568" y="2160"/>
                    <a:pt x="3024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45040" y="4073760"/>
              <a:ext cx="1005480" cy="1410120"/>
            </a:xfrm>
            <a:custGeom>
              <a:avLst/>
              <a:gdLst/>
              <a:ahLst/>
              <a:rect l="l" t="t" r="r" b="b"/>
              <a:pathLst>
                <a:path w="1584" h="2568">
                  <a:moveTo>
                    <a:pt x="0" y="24"/>
                  </a:moveTo>
                  <a:cubicBezTo>
                    <a:pt x="408" y="12"/>
                    <a:pt x="816" y="0"/>
                    <a:pt x="864" y="312"/>
                  </a:cubicBezTo>
                  <a:cubicBezTo>
                    <a:pt x="912" y="624"/>
                    <a:pt x="264" y="1536"/>
                    <a:pt x="288" y="1896"/>
                  </a:cubicBezTo>
                  <a:cubicBezTo>
                    <a:pt x="312" y="2256"/>
                    <a:pt x="792" y="2376"/>
                    <a:pt x="1008" y="2472"/>
                  </a:cubicBezTo>
                  <a:cubicBezTo>
                    <a:pt x="1224" y="2568"/>
                    <a:pt x="1404" y="2520"/>
                    <a:pt x="1584" y="24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50880" y="5036400"/>
              <a:ext cx="109692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D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71120" y="3365280"/>
              <a:ext cx="273960" cy="1371240"/>
            </a:xfrm>
            <a:custGeom>
              <a:avLst/>
              <a:gdLst/>
              <a:ahLst/>
              <a:rect l="l" t="t" r="r" b="b"/>
              <a:pathLst>
                <a:path w="432" h="2160">
                  <a:moveTo>
                    <a:pt x="0" y="0"/>
                  </a:moveTo>
                  <a:cubicBezTo>
                    <a:pt x="216" y="468"/>
                    <a:pt x="432" y="936"/>
                    <a:pt x="432" y="1296"/>
                  </a:cubicBezTo>
                  <a:cubicBezTo>
                    <a:pt x="432" y="1656"/>
                    <a:pt x="216" y="1908"/>
                    <a:pt x="0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13920" y="3382920"/>
              <a:ext cx="289440" cy="548280"/>
            </a:xfrm>
            <a:custGeom>
              <a:avLst/>
              <a:gdLst/>
              <a:ahLst/>
              <a:rect l="l" t="t" r="r" b="b"/>
              <a:pathLst>
                <a:path w="456" h="864">
                  <a:moveTo>
                    <a:pt x="0" y="0"/>
                  </a:moveTo>
                  <a:cubicBezTo>
                    <a:pt x="204" y="288"/>
                    <a:pt x="408" y="576"/>
                    <a:pt x="432" y="720"/>
                  </a:cubicBezTo>
                  <a:cubicBezTo>
                    <a:pt x="456" y="864"/>
                    <a:pt x="192" y="840"/>
                    <a:pt x="144" y="8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64880" y="4268880"/>
              <a:ext cx="914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90920" y="2642400"/>
              <a:ext cx="1554120" cy="165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uK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rK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C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AO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DO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328248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90920" y="355680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90920" y="384012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90920" y="291672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68000" y="2102760"/>
              <a:ext cx="127980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EF(Pu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45040" y="2651400"/>
              <a:ext cx="1096920" cy="198000"/>
            </a:xfrm>
            <a:custGeom>
              <a:avLst/>
              <a:gdLst/>
              <a:ahLst/>
              <a:rect l="l" t="t" r="r" b="b"/>
              <a:pathLst>
                <a:path w="1728" h="312">
                  <a:moveTo>
                    <a:pt x="0" y="144"/>
                  </a:moveTo>
                  <a:cubicBezTo>
                    <a:pt x="504" y="228"/>
                    <a:pt x="1008" y="312"/>
                    <a:pt x="1296" y="288"/>
                  </a:cubicBezTo>
                  <a:cubicBezTo>
                    <a:pt x="1584" y="264"/>
                    <a:pt x="1656" y="132"/>
                    <a:pt x="17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65280" y="2057400"/>
              <a:ext cx="1005480" cy="685440"/>
            </a:xfrm>
            <a:custGeom>
              <a:avLst/>
              <a:gdLst/>
              <a:ahLst/>
              <a:rect l="l" t="t" r="r" b="b"/>
              <a:pathLst>
                <a:path w="1536" h="1080">
                  <a:moveTo>
                    <a:pt x="0" y="216"/>
                  </a:moveTo>
                  <a:cubicBezTo>
                    <a:pt x="312" y="108"/>
                    <a:pt x="624" y="0"/>
                    <a:pt x="864" y="72"/>
                  </a:cubicBezTo>
                  <a:cubicBezTo>
                    <a:pt x="1104" y="144"/>
                    <a:pt x="1344" y="480"/>
                    <a:pt x="1440" y="648"/>
                  </a:cubicBezTo>
                  <a:cubicBezTo>
                    <a:pt x="1536" y="816"/>
                    <a:pt x="1488" y="948"/>
                    <a:pt x="1440" y="10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145040" y="3029400"/>
              <a:ext cx="1919880" cy="7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33760" y="2742840"/>
              <a:ext cx="273960" cy="914040"/>
            </a:xfrm>
            <a:custGeom>
              <a:avLst/>
              <a:gdLst/>
              <a:ahLst/>
              <a:rect l="l" t="t" r="r" b="b"/>
              <a:pathLst>
                <a:path w="432" h="1440">
                  <a:moveTo>
                    <a:pt x="432" y="0"/>
                  </a:moveTo>
                  <a:cubicBezTo>
                    <a:pt x="216" y="168"/>
                    <a:pt x="0" y="336"/>
                    <a:pt x="0" y="576"/>
                  </a:cubicBezTo>
                  <a:cubicBezTo>
                    <a:pt x="0" y="816"/>
                    <a:pt x="216" y="1128"/>
                    <a:pt x="432" y="14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3880" y="1981080"/>
            <a:ext cx="6705720" cy="3886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3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209680"/>
            <a:ext cx="6172200" cy="342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81080" y="2286000"/>
            <a:ext cx="5661000" cy="3098880"/>
            <a:chOff x="1981080" y="2286000"/>
            <a:chExt cx="5661000" cy="3098880"/>
          </a:xfrm>
        </p:grpSpPr>
        <p:sp>
          <p:nvSpPr>
            <p:cNvPr id="142" name=""/>
            <p:cNvSpPr/>
            <p:nvPr/>
          </p:nvSpPr>
          <p:spPr>
            <a:xfrm>
              <a:off x="6610320" y="300996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45000" y="24159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824360" y="2708280"/>
              <a:ext cx="69840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35600" y="278424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01360" y="2625480"/>
              <a:ext cx="438120" cy="55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36280" y="2564640"/>
              <a:ext cx="84780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19440" y="2286000"/>
              <a:ext cx="81288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38520" y="3152520"/>
              <a:ext cx="812880" cy="50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57680" y="3114720"/>
              <a:ext cx="103212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3160" y="3273480"/>
              <a:ext cx="76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7360" y="3178080"/>
              <a:ext cx="76212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Fs/EFs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90760" y="31496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0984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2440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4832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108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5280" y="410832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11680" y="3720240"/>
              <a:ext cx="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798720" y="3628800"/>
              <a:ext cx="581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87880" y="3612960"/>
              <a:ext cx="54288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11720" y="3498840"/>
              <a:ext cx="150480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27080" y="3533760"/>
              <a:ext cx="140976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4240" y="3308400"/>
              <a:ext cx="104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11040" y="4260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7440" y="427968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49520" y="4260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87760" y="4270320"/>
              <a:ext cx="90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26000" y="427968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4840" y="4984560"/>
              <a:ext cx="3092400" cy="40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00320" y="5060880"/>
              <a:ext cx="145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352320" y="4667040"/>
              <a:ext cx="1587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20240" y="4667040"/>
              <a:ext cx="165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457160" y="4673520"/>
              <a:ext cx="1587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25080" y="4673520"/>
              <a:ext cx="165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568840" y="4653720"/>
              <a:ext cx="16488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43600" y="4654440"/>
              <a:ext cx="1713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19320" y="1600200"/>
            <a:ext cx="7467480" cy="4495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4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2057400"/>
            <a:ext cx="678204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676520" y="2362320"/>
            <a:ext cx="6425640" cy="3326760"/>
            <a:chOff x="1676520" y="2362320"/>
            <a:chExt cx="6425640" cy="3326760"/>
          </a:xfrm>
        </p:grpSpPr>
        <p:sp>
          <p:nvSpPr>
            <p:cNvPr id="182" name=""/>
            <p:cNvSpPr/>
            <p:nvPr/>
          </p:nvSpPr>
          <p:spPr>
            <a:xfrm>
              <a:off x="5059800" y="2492280"/>
              <a:ext cx="7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453560" y="2784240"/>
              <a:ext cx="68184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41400" y="2860560"/>
              <a:ext cx="0" cy="36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9240" y="2701800"/>
              <a:ext cx="452880" cy="52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34960" y="2362320"/>
              <a:ext cx="79380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8840" y="3228840"/>
              <a:ext cx="793440" cy="50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69440" y="3203280"/>
              <a:ext cx="100764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72040" y="3349440"/>
              <a:ext cx="744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05880" y="3362040"/>
              <a:ext cx="7437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F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34720" y="322560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60200" y="418464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11760" y="417816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59720" y="419076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76520" y="418464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15120" y="418464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43760" y="3796560"/>
              <a:ext cx="0" cy="37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451680" y="3704400"/>
              <a:ext cx="5673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10240" y="3688560"/>
              <a:ext cx="530280" cy="51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31200" y="3574800"/>
              <a:ext cx="146988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502360" y="3609720"/>
              <a:ext cx="137700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384360"/>
              <a:ext cx="101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03240" y="4336920"/>
              <a:ext cx="744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05120" y="4356000"/>
              <a:ext cx="84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97000" y="4336920"/>
              <a:ext cx="7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74040" y="4340160"/>
              <a:ext cx="88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38480" y="4362120"/>
              <a:ext cx="104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88040" y="319392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59960" y="3340080"/>
              <a:ext cx="104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36680" y="2568240"/>
              <a:ext cx="163728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31640" y="4844880"/>
              <a:ext cx="924120" cy="36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25160" y="4895640"/>
              <a:ext cx="91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71920" y="5327640"/>
              <a:ext cx="924120" cy="36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71920" y="5384520"/>
              <a:ext cx="91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44960" y="5657760"/>
              <a:ext cx="38887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74560" y="5505120"/>
              <a:ext cx="28591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28640" y="5359320"/>
              <a:ext cx="17863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0280" y="4749480"/>
              <a:ext cx="0" cy="9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88960" y="4743360"/>
              <a:ext cx="6120" cy="43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82120" y="4736880"/>
              <a:ext cx="0" cy="76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318200" y="4736880"/>
              <a:ext cx="612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223600" y="4736880"/>
              <a:ext cx="612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373360" y="4730400"/>
              <a:ext cx="57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93640" y="5180760"/>
              <a:ext cx="329976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17120" y="5016240"/>
              <a:ext cx="226368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71560" y="4850640"/>
              <a:ext cx="120312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52520" y="3745440"/>
              <a:ext cx="275760" cy="15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53160" y="3727440"/>
              <a:ext cx="499320" cy="112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9320" y="1752480"/>
            <a:ext cx="7543800" cy="44960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5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2057400"/>
            <a:ext cx="6476760" cy="396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133720" y="2286000"/>
            <a:ext cx="6168960" cy="3463560"/>
            <a:chOff x="2133720" y="2286000"/>
            <a:chExt cx="6168960" cy="3463560"/>
          </a:xfrm>
        </p:grpSpPr>
        <p:sp>
          <p:nvSpPr>
            <p:cNvPr id="233" name=""/>
            <p:cNvSpPr/>
            <p:nvPr/>
          </p:nvSpPr>
          <p:spPr>
            <a:xfrm>
              <a:off x="4165560" y="228600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05240" y="24447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65560" y="315288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0524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60720" y="3162240"/>
              <a:ext cx="103176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86280" y="3338640"/>
              <a:ext cx="90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78640" y="315288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1832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95960" y="3152880"/>
              <a:ext cx="103176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3564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3696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33720" y="444492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0844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54440" y="4449960"/>
              <a:ext cx="844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7992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06840" y="4426200"/>
              <a:ext cx="90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41680" y="4324320"/>
              <a:ext cx="69876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32320" y="44262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1352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65640" y="441972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8500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5648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2796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73520" y="284184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645000" y="2745720"/>
              <a:ext cx="63792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63400" y="2745720"/>
              <a:ext cx="70164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7040" y="2555280"/>
              <a:ext cx="187632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292200" y="3717360"/>
              <a:ext cx="2761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502000" y="3613320"/>
              <a:ext cx="666720" cy="7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054320" y="3622680"/>
              <a:ext cx="13622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797360" y="3708360"/>
              <a:ext cx="876240" cy="61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578560" y="3699000"/>
              <a:ext cx="333360" cy="62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49680" y="3641760"/>
              <a:ext cx="4287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12160" y="370836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73240" y="3632400"/>
              <a:ext cx="3999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35200" y="4734000"/>
              <a:ext cx="0" cy="78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39960" y="519444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419200" y="4756320"/>
              <a:ext cx="648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527200" y="5299200"/>
              <a:ext cx="22701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06800" y="4670640"/>
              <a:ext cx="6120" cy="10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305080" y="4737240"/>
              <a:ext cx="648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27200" y="4753080"/>
              <a:ext cx="0" cy="5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3200" y="4702320"/>
              <a:ext cx="0" cy="50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17680" y="5407200"/>
              <a:ext cx="326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35200" y="5515200"/>
              <a:ext cx="371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19200" y="5635800"/>
              <a:ext cx="468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209680" y="5743440"/>
              <a:ext cx="568656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4012920" y="4743360"/>
              <a:ext cx="12960" cy="45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4789800" y="4740480"/>
              <a:ext cx="7200" cy="55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5564520" y="4732200"/>
              <a:ext cx="7560" cy="67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6344280" y="4751640"/>
              <a:ext cx="648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7098120" y="4751280"/>
              <a:ext cx="720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7885440" y="4744800"/>
              <a:ext cx="10440" cy="10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99320" y="4432320"/>
              <a:ext cx="90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30920" y="44262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477200" y="442620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0T13:33:42Z</dcterms:created>
  <dc:creator>Misniker</dc:creator>
  <dc:description/>
  <dc:language>en-US</dc:language>
  <cp:lastModifiedBy>Magnus Nystrom</cp:lastModifiedBy>
  <cp:lastPrinted>1997-11-11T22:03:13Z</cp:lastPrinted>
  <dcterms:modified xsi:type="dcterms:W3CDTF">1999-09-30T14:57:46Z</dcterms:modified>
  <cp:revision>28</cp:revision>
  <dc:subject/>
  <dc:title>I S D N</dc:title>
</cp:coreProperties>
</file>