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#15 v1.1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KCS Workshop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a solution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65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59080" y="1428840"/>
            <a:ext cx="7225920" cy="4819680"/>
            <a:chOff x="1459080" y="1428840"/>
            <a:chExt cx="7225920" cy="4819680"/>
          </a:xfrm>
        </p:grpSpPr>
        <p:sp>
          <p:nvSpPr>
            <p:cNvPr id="114" name=""/>
            <p:cNvSpPr/>
            <p:nvPr/>
          </p:nvSpPr>
          <p:spPr>
            <a:xfrm>
              <a:off x="1469880" y="1428840"/>
              <a:ext cx="146664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80080" y="1428840"/>
              <a:ext cx="146628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8160" y="143064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8360" y="143064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59080" y="2762640"/>
              <a:ext cx="1485720" cy="704520"/>
              <a:chOff x="1459080" y="2762640"/>
              <a:chExt cx="1485720" cy="7045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59080" y="2762640"/>
                <a:ext cx="148572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91480" y="293220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707080" y="2762640"/>
              <a:ext cx="1485360" cy="704520"/>
              <a:chOff x="5707080" y="2762640"/>
              <a:chExt cx="1485360" cy="704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707080" y="2762640"/>
                <a:ext cx="148536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39120" y="293220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679560" y="1428840"/>
              <a:ext cx="146664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78200" y="143064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668760" y="2762640"/>
              <a:ext cx="1485360" cy="704520"/>
              <a:chOff x="3668760" y="2762640"/>
              <a:chExt cx="1485360" cy="704520"/>
            </a:xfrm>
          </p:grpSpPr>
          <p:sp>
            <p:nvSpPr>
              <p:cNvPr id="127" name=""/>
              <p:cNvSpPr/>
              <p:nvPr/>
            </p:nvSpPr>
            <p:spPr>
              <a:xfrm>
                <a:off x="3668760" y="2762640"/>
                <a:ext cx="148536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00800" y="293220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74760" y="349416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46160" y="434376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2600" y="351324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03720" y="436284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22760" y="349416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4160" y="434376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2160" y="5581800"/>
              <a:ext cx="39960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6640" y="5639040"/>
              <a:ext cx="171000" cy="171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8640" y="440244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C/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09720" y="5640480"/>
              <a:ext cx="147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KCS 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694040" y="5848560"/>
              <a:ext cx="2563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51360" y="4631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8640" y="287676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720" y="2876760"/>
              <a:ext cx="1475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KCS 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KCS #15’s 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enable portability of personal credentials stored on cryptographic tokens across computer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Now for the bad news...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deficiencies in PKCS #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support for tokens not capable of protecting privat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support for software toke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support for simple stored-memory toke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se types REQUIRE other kinds of protection of private objects (i.e. integrity- and confidentiality-protect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ciencies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ny organizations cannot afford an infrastructure with cards and readers or would prefer to start with software-only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mory cards are very popular in some countri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reason why PKCS #15 should not include support for these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But wait - don’t give up yet!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the forthcoming propos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ed support for integrity- and confidentiality- protection of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ole objects may be protected, or just some attributes (I.e. th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of the object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ed possibility to store thumbprint of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external objects, not just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KCS15Token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52480" y="160020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3040" y="17175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400" y="22860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Mgm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400" y="2819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75320" y="167652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oken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74240" y="22860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gmt info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4960" y="2854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3581280"/>
            <a:ext cx="6629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kenInfo field consists of all components from the current TokenInfo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are the same as in the current object directory file (O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type may itself be integrit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Management Inf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ne or several pairs of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recipient info is the same as in PKCS #7, but a passwordRecipientInfo has been ad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92320" y="2286000"/>
            <a:ext cx="2514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9232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2604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2604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1252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1216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3000" y="2362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identif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5160" y="29718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ien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sword Based Recipient Inf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nesting allows several objects to be protected with the same password (with different content-encryption key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5120" y="1599480"/>
            <a:ext cx="2514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852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76000" y="2286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9880" y="28195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572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8000" y="22096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“My Bank passw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15560" y="277812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from PKCS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4040" y="346392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KeyID po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a Recipien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ckground - PKCS #15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ason for the proposa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verview of the proposa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ity Protected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438280" y="1600200"/>
            <a:ext cx="2514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038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2204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23120" y="2286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0600" y="2819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0960" y="3505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3480" y="4191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60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22800" y="2286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Key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27120" y="28544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22440" y="35402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422604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dentiality Protected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1599480"/>
            <a:ext cx="2514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2204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23120" y="2286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0600" y="2819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20960" y="3505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22800" y="2286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Key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58800" y="285444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ES-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22440" y="35402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ection of of Object Val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sequence of objects, or an object value itself may now b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ly stored (I.e. “inline”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directly stored (pointed to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-protected (confidentiality protected, directly stored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direct-protected (confidentiality protected, and pointed to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ware Tok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p-level structure will be PKCS15Toke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y or may not be integrity protec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ll contain all other objects, or pointers (urls) to the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vate objects will be encryp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l keys will be in a key management table (except perhaps for the outermost integrity protection key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33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mory cards and other simple H/W tok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EF(ODF) may or may not be integrity protected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les containing private objects will, most likely, be encryp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an alternative, a complete PKCS15Token may be stored on the card/H-W token as one fi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posal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xtend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the capacity of PKCS #15, it does not make any existing applications incompatib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posal allows tokens not capable of protecting private objects themselves to store such objects in a secure mann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t is still just a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possible enhanc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mand mappings (in an attempt to get rid of specific card layers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CL mappings (for easier knowledge of rights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biometric authentication method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external/internal AUTH commands/methods/protocol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possible enhancements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it be possible to find PKCS #15 applications on an IC Card without using the PKCS #15 AID? If so, how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st draft of PKCS #15 v1.1 will be submitted late October/early Novemb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2nd draft is expected early in Janua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1.1 expected in February 200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How can I help?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re is a need for standardization of the format of cryptographic credentials stored on cryptographic tokens, if one wants portabi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act Us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usual, send comments and suggestions t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tng@rsasecurity.com, o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editor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(sigh) Too many buzzwords...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right, let’s define them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ic credentials”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s and 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ic token”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portable device capable of storing cryptographic credentials identifying its owner.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xample: Smart C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s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ken format”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detailed description of how certain higher-level abstractions such as keys and certificates are represented on a token in terms of e.g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a struc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ile conten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ory struc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, continue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standardize a token format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thout a standardized token format there will be no interoperabil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re not APIs enough (e.g. PKCS #11, OpenCard…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tandardized APIs are neither necessary nor sufficient for token portability, but they help 3rd party vendo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What is he talking about???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problem...</a:t>
            </a:r>
            <a:br>
              <a:rPr sz="3600"/>
            </a:b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(from S.Guther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4320" y="5578560"/>
            <a:ext cx="475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is tied to particular cards so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holder is tied to particular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55920" y="1447920"/>
            <a:ext cx="5469480" cy="3962160"/>
            <a:chOff x="2455920" y="1447920"/>
            <a:chExt cx="5469480" cy="3962160"/>
          </a:xfrm>
        </p:grpSpPr>
        <p:sp>
          <p:nvSpPr>
            <p:cNvPr id="99" name=""/>
            <p:cNvSpPr/>
            <p:nvPr/>
          </p:nvSpPr>
          <p:spPr>
            <a:xfrm>
              <a:off x="5408640" y="4533840"/>
              <a:ext cx="1485720" cy="87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75280" y="4667400"/>
              <a:ext cx="39996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71720" y="4040280"/>
              <a:ext cx="739800" cy="934920"/>
            </a:xfrm>
            <a:custGeom>
              <a:avLst/>
              <a:gdLst/>
              <a:ahLst/>
              <a:rect l="l" t="t" r="r" b="b"/>
              <a:pathLst>
                <a:path w="466" h="589">
                  <a:moveTo>
                    <a:pt x="0" y="0"/>
                  </a:moveTo>
                  <a:lnTo>
                    <a:pt x="5" y="52"/>
                  </a:lnTo>
                  <a:lnTo>
                    <a:pt x="11" y="110"/>
                  </a:lnTo>
                  <a:lnTo>
                    <a:pt x="38" y="215"/>
                  </a:lnTo>
                  <a:lnTo>
                    <a:pt x="87" y="315"/>
                  </a:lnTo>
                  <a:lnTo>
                    <a:pt x="148" y="401"/>
                  </a:lnTo>
                  <a:lnTo>
                    <a:pt x="219" y="478"/>
                  </a:lnTo>
                  <a:lnTo>
                    <a:pt x="257" y="511"/>
                  </a:lnTo>
                  <a:lnTo>
                    <a:pt x="295" y="535"/>
                  </a:lnTo>
                  <a:lnTo>
                    <a:pt x="339" y="559"/>
                  </a:lnTo>
                  <a:lnTo>
                    <a:pt x="377" y="574"/>
                  </a:lnTo>
                  <a:lnTo>
                    <a:pt x="421" y="583"/>
                  </a:lnTo>
                  <a:lnTo>
                    <a:pt x="465" y="5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6240" y="4789440"/>
              <a:ext cx="83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Times New Roman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99000" y="4782960"/>
              <a:ext cx="62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455920" y="1447920"/>
              <a:ext cx="4438440" cy="819000"/>
              <a:chOff x="2455920" y="1447920"/>
              <a:chExt cx="4438440" cy="819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55920" y="1447920"/>
                <a:ext cx="4438440" cy="81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61440" y="1676520"/>
                <a:ext cx="3122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Token (Card)-aware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455920" y="3238560"/>
              <a:ext cx="4438440" cy="799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55920" y="2782800"/>
              <a:ext cx="4438440" cy="438120"/>
              <a:chOff x="2455920" y="2782800"/>
              <a:chExt cx="4438440" cy="438120"/>
            </a:xfrm>
          </p:grpSpPr>
          <p:sp>
            <p:nvSpPr>
              <p:cNvPr id="109" name=""/>
              <p:cNvSpPr/>
              <p:nvPr/>
            </p:nvSpPr>
            <p:spPr>
              <a:xfrm>
                <a:off x="2455920" y="2782800"/>
                <a:ext cx="4438440" cy="43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64680" y="282096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53:47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9T18:14:59Z</dcterms:modified>
  <cp:revision>3</cp:revision>
  <dc:subject/>
  <dc:title>PKCS #15 v1.1</dc:title>
</cp:coreProperties>
</file>